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754-7517-4613-A2DC-AB9459EE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954-3439-40EE-AAB3-6F2DFBD5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E2B-F3B1-4E3D-8313-0A89B3E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E1F-ACF8-4D2E-9BC6-9C0B9D86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F92E-2DFC-4E14-B0A0-503D44A2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585D-54D9-45B1-84BA-C778AFF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7A29-341C-46E1-A2A5-06670E8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A692-2EF5-457A-84B2-0C009CC2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D25E-0754-4034-B1F4-1E11D92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6612-2F69-4B84-A3FF-6EDC91C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765C-590E-419C-A5BD-0CD5455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89C-8600-44C4-A891-A1F597B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5840-3CAC-4A3D-AB3B-DA1AA7A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1F8-C00C-4784-9766-145379E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7F58-97BA-4C41-B496-FFC5739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6624-CAB1-434E-A97A-04D7B63B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8579-ECEB-4B31-B737-4FB59086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006-969C-434D-AD75-ABC3025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DA1-B139-4F0B-BD06-9A1BCD7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0ED-6BC5-4B50-B34B-937B486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759-1DD6-40DC-A6A4-14B0E7D7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555-AC5B-46EC-B2ED-9234DDB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A08-E655-491C-B7C0-A1A68CCD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1ED-21A5-4C17-BA88-F505018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C64-2243-4FA9-8D00-3B0481371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9242-C3DF-42EE-A87F-28EBB56D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onfiguración de interfase inalámb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básica, WDS, Virtual AP, N-Str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-type=Atheros AR52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ip-info="mac:0x5/0x6, phy:0x41, a5:0x17, a2:0x23, eeprom:0x3004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x-power-control=yes ack-timeout-control=yes alignment-mode=yes virtual-aps=yes noise-floor-control=yes scan-support=yes burst-support=yes nstreme-support=yes default-periodic-calibration=enable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ported-bands=2ghz-b,5ghz,5ghz-turbo,2ghz-g,2ghz-g-turbo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b-channels=2412,2417,2422,2427,2432,2437,2442,2447,2452,2457,2462,2467,2472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channels=5180,5200,5220,5240,5260,5280,5300,5320,5745,5765,5785,5805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turbo-channels=5210,5250,5290,5760,5800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channels=2412,2417,2422,2427,2432,2437,2442,2447,2452,2457,2462,2467,2472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turbo-channels=2412,2417,2422,2427,2432,2437,2442,2447,2452,2457,2462,2467,24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ccq: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ccq: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ming-mode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bla de registr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# INT...   RADIO-NAME     MAC-ADDRESS     AP  SIGNAL... TX-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wlan1  000B6B31635D   00:0B:6B:31:63:5D yes -41            54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isticas desde la tabla de regist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=wlan1 radio-name="000B6B31635D" mac-address=00:0B:6B:31:63:5D ap=yes wds=no rx-rate=54Mbps tx-rate=54Mbps packets=15009,18686 bytes=20751659,26806208 frames=15009,18740 frame-bytes=20751659,26807013 hw-frames=15009,18750 hw-frame-bytes=21111875,27257053 uptime=02:14:06 last-activity=00:00:00.040 signal-strength=-44 tx-signal-strength=-52 tx-ccq=27 rx-ccq=66 ack-timeout=56 distance=56 nstreme=no framing-mode=none routeros-version="2.8.16" last-ip=1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 de scaneo de re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DRESS             SSID          BAND     FREQ BSS PRI SIGNAL-S... ROU NST FAS RAD...   ROU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2:6F:32:43:AA dzi             2.4ghz-b  2412  yes   no   -54                no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3:0D:4F PC_PO...  2.4ghz-b  2412  yes   no   -68                yes   no    no    000...   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90:4B:19:A5:E4 spa            2.4ghz-g  2437  yes   no   -51                no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1:02:4B wtest         2.4ghz-g  2442  yes   no   -58                yes   no    no    AP_172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de 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face wirel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0 name="wlan1" security=required algo-0=40-bit-wep key-0=“0123456789" algo-1=none key-1="" algo-2=none key-2="" algo-3=none key-3="" transmit-key=key-0 sta-private-algo=none sta-private-key="" radius-mac-authentication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 40bit-WEP(64bit), 104bit-WEP(128), AES-C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conexión con el AP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si tu ves el AP cuando haces scan, estando seguro que la frecuencia del AP este incluida en el scan-list, que estes usando la banda correcta y checa la opción de default-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 rendimiento o desconexión en el enlace inalámbr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a senal (recomendado minimo -75), interferencia – usa canal diferente, trata con los defaults de la tarjeta inalámbrica (tx-power, ack-timeout, rate-set, etc), checa la opción de power-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de Distribución Inalámbrica (W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(Wireless Distribution System) permite a los paquetes pasar desde un AP a otro, tal como si ambos fueran puertos de un switch Ethern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s deben usar el mismo standard (802.11a, 802.11b o 802.11g)  y trabajar sobre las mismas frecuencias para poderse conectar entr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es usado para hacer rede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nte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 través del medio inalámbrico y extender el rango de la red inalámb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22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728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566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407664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2" idx="5"/>
            <a:endCxn id="253" idx="2"/>
          </p:cNvCxnSpPr>
          <p:nvPr/>
        </p:nvCxnSpPr>
        <p:spPr>
          <a:xfrm flipV="1">
            <a:off x="1114560" y="3157200"/>
            <a:ext cx="151344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52" idx="5"/>
            <a:endCxn id="255" idx="2"/>
          </p:cNvCxnSpPr>
          <p:nvPr/>
        </p:nvCxnSpPr>
        <p:spPr>
          <a:xfrm>
            <a:off x="1114560" y="4490640"/>
            <a:ext cx="1513440" cy="35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2"/>
          </p:cNvCxnSpPr>
          <p:nvPr/>
        </p:nvCxnSpPr>
        <p:spPr>
          <a:xfrm>
            <a:off x="1114560" y="4491000"/>
            <a:ext cx="1513440" cy="1620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659640" y="414972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3640" y="566100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256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9" idx="4"/>
            <a:endCxn id="260" idx="1"/>
          </p:cNvCxnSpPr>
          <p:nvPr/>
        </p:nvCxnSpPr>
        <p:spPr>
          <a:xfrm>
            <a:off x="7199280" y="4599000"/>
            <a:ext cx="954720" cy="1242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61" idx="4"/>
            <a:endCxn id="259" idx="1"/>
          </p:cNvCxnSpPr>
          <p:nvPr/>
        </p:nvCxnSpPr>
        <p:spPr>
          <a:xfrm>
            <a:off x="5901840" y="3157560"/>
            <a:ext cx="1027800" cy="1172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2400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o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229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70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8" idx="3"/>
            <a:endCxn id="267" idx="1"/>
          </p:cNvCxnSpPr>
          <p:nvPr/>
        </p:nvCxnSpPr>
        <p:spPr>
          <a:xfrm>
            <a:off x="95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7" idx="4"/>
            <a:endCxn id="269" idx="2"/>
          </p:cNvCxnSpPr>
          <p:nvPr/>
        </p:nvCxnSpPr>
        <p:spPr>
          <a:xfrm>
            <a:off x="122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69" idx="1"/>
            <a:endCxn id="270" idx="3"/>
          </p:cNvCxnSpPr>
          <p:nvPr/>
        </p:nvCxnSpPr>
        <p:spPr>
          <a:xfrm flipV="1">
            <a:off x="311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68" idx="4"/>
            <a:endCxn id="270" idx="2"/>
          </p:cNvCxnSpPr>
          <p:nvPr/>
        </p:nvCxnSpPr>
        <p:spPr>
          <a:xfrm>
            <a:off x="122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6400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7" idx="1"/>
          </p:cNvCxnSpPr>
          <p:nvPr/>
        </p:nvCxnSpPr>
        <p:spPr>
          <a:xfrm>
            <a:off x="563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7" idx="4"/>
            <a:endCxn id="279" idx="2"/>
          </p:cNvCxnSpPr>
          <p:nvPr/>
        </p:nvCxnSpPr>
        <p:spPr>
          <a:xfrm>
            <a:off x="590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80" idx="3"/>
          </p:cNvCxnSpPr>
          <p:nvPr/>
        </p:nvCxnSpPr>
        <p:spPr>
          <a:xfrm flipV="1">
            <a:off x="779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4"/>
            <a:endCxn id="280" idx="2"/>
          </p:cNvCxnSpPr>
          <p:nvPr/>
        </p:nvCxnSpPr>
        <p:spPr>
          <a:xfrm>
            <a:off x="590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8" idx="4"/>
            <a:endCxn id="279" idx="1"/>
          </p:cNvCxnSpPr>
          <p:nvPr/>
        </p:nvCxnSpPr>
        <p:spPr>
          <a:xfrm>
            <a:off x="5904000" y="323064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1"/>
            <a:endCxn id="280" idx="2"/>
          </p:cNvCxnSpPr>
          <p:nvPr/>
        </p:nvCxnSpPr>
        <p:spPr>
          <a:xfrm flipV="1">
            <a:off x="5634000" y="323028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 dinámico o estático en el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dynam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default-bridge=bridg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stat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 wd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address=00:0B:6B:31:63:5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er-interface=wla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435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frequency=2442 band=2.4ghz-b/g mode=ap-bridge disabled=n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band=2.4ghz-b/g mode=station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141300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2492280"/>
            <a:ext cx="79200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7"/>
            <a:endCxn id="215" idx="2"/>
          </p:cNvCxnSpPr>
          <p:nvPr/>
        </p:nvCxnSpPr>
        <p:spPr>
          <a:xfrm flipV="1">
            <a:off x="2224080" y="1861920"/>
            <a:ext cx="184392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6" idx="1"/>
            <a:endCxn id="215" idx="4"/>
          </p:cNvCxnSpPr>
          <p:nvPr/>
        </p:nvCxnSpPr>
        <p:spPr>
          <a:xfrm flipH="1" flipV="1">
            <a:off x="4606920" y="1861920"/>
            <a:ext cx="195300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8" idx="0"/>
            <a:endCxn id="215" idx="3"/>
          </p:cNvCxnSpPr>
          <p:nvPr/>
        </p:nvCxnSpPr>
        <p:spPr>
          <a:xfrm flipV="1">
            <a:off x="4321080" y="2131200"/>
            <a:ext cx="165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358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interfase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add name=bridge1 disabled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da la Ethernet local al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ether1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e los 2 equipos como AP’s y habilite WD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mode=ap-bridge band=5ghz frequency=5300 wds-mode=dynamic wds-default-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844640"/>
            <a:ext cx="115236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1844640"/>
            <a:ext cx="115272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4"/>
            <a:endCxn id="291" idx="2"/>
          </p:cNvCxnSpPr>
          <p:nvPr/>
        </p:nvCxnSpPr>
        <p:spPr>
          <a:xfrm>
            <a:off x="3526920" y="2222280"/>
            <a:ext cx="2197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3" idx="6"/>
          </p:cNvCxnSpPr>
          <p:nvPr/>
        </p:nvCxnSpPr>
        <p:spPr>
          <a:xfrm flipH="1" flipV="1">
            <a:off x="1763280" y="2204280"/>
            <a:ext cx="122472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4"/>
            <a:endCxn id="294" idx="2"/>
          </p:cNvCxnSpPr>
          <p:nvPr/>
        </p:nvCxnSpPr>
        <p:spPr>
          <a:xfrm flipV="1">
            <a:off x="6264000" y="2204280"/>
            <a:ext cx="1261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862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ce 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hacer lo mismo pero usando el modo estático, hay que hacer los siguientes cambios en ambos rute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ifique la configuración de la interfase inalambric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wds-mode=static wds-default-bridg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a interfase estática  WDS y especifique la direccion mac del radio remoto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wds add name=wds master-interface=wlan1 wds-address=xx:xx:xx:xx:xx:xx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la interfase WDS al bridg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wds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name="wlan2" mtu=1500 mac-address=00:0B:6B:31:05:7C arp=enabled disable-running-check=no interface-type=virtual-AP master-interface=wlan1 ssid="MikroTik" max-station-count=2007 default-authentication=yes default-forwarding=yes hide-ssid=no 802.1x-mode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ones principal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aster-interf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n cual interfase 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ndo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ombre de la red para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inalámbrico propietario de MikroTik (incompatible con otros fabricantes) creado para optimizar enlaces inalámbricos punto-punto y 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-multi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streme2 (Dual) trabaja con un par de tarjetas inalámbricas (tarjetas con chipset Atheros solamente) – una para transmitir y otra para 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neficios del protoc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ajo “overhead” por frame, permitiendo super altas velocidad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limite por distancia por protoc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degradación de velocidad debido a protocolo en enlace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juste dinámico del protocolo, dependiendo del tipo de trafico y el us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habilitar N-streme debes tener un enlace inalámbrico activo y después habilitar N-Streme en ambos ruteadores en la configuración de la tarjeta inalámb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enable-nstreme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u quieres incrementar el rendimiento del enlace, necesitas especificar algún tipo de política de frames, por default ninguna esta habili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framer-policy=dynamic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hora la tarjeta inalámbrica tratara de incrementar el rendimiento mandando frames mas grandes – construirá frames mas grandes añadiendo paquetes múltiples en cad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413000"/>
            <a:ext cx="4537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ing-mod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exact-size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framing-limit: 3200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framing-current-size: 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133992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polling: 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l radio en Full-dupl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ruteadores tien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jetas inalámbr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1: wlan1 – solo recibe; wlan2 – solo transm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2: wlan1 – solo transmite; wlan2 – solo rec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2127240"/>
            <a:ext cx="79200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2127240"/>
            <a:ext cx="79236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62252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299088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4" idx="0"/>
            <a:endCxn id="316" idx="1"/>
          </p:cNvCxnSpPr>
          <p:nvPr/>
        </p:nvCxnSpPr>
        <p:spPr>
          <a:xfrm flipH="1" flipV="1" rot="5400000">
            <a:off x="2497680" y="1637280"/>
            <a:ext cx="18000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5653080" y="162252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3080" y="299088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5" idx="1"/>
            <a:endCxn id="319" idx="1"/>
          </p:cNvCxnSpPr>
          <p:nvPr/>
        </p:nvCxnSpPr>
        <p:spPr>
          <a:xfrm flipV="1" rot="16200000">
            <a:off x="6260040" y="1627200"/>
            <a:ext cx="3801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 flipH="1">
            <a:off x="3203640" y="198288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33512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5640" y="1328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133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4" idx="3"/>
            <a:endCxn id="317" idx="1"/>
          </p:cNvCxnSpPr>
          <p:nvPr/>
        </p:nvCxnSpPr>
        <p:spPr>
          <a:xfrm flipH="1" rot="16200000">
            <a:off x="2289600" y="2618280"/>
            <a:ext cx="397800" cy="9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5" idx="3"/>
            <a:endCxn id="320" idx="1"/>
          </p:cNvCxnSpPr>
          <p:nvPr/>
        </p:nvCxnSpPr>
        <p:spPr>
          <a:xfrm rot="5400000">
            <a:off x="6251760" y="2608920"/>
            <a:ext cx="3963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90800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3278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n ambas tarjetas que use dual-nstrem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,wlan2 mode=nstreme-dual-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nueva interfase dual nstreme y configúrel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add rx-radio=wlan1 tx-radio=wlan2 rx-band=5ghz-turbo tx-band=5ghz-turbo rx-frequency=5760 tx-frequency=5210 framer-policy=exact-size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la dirección mac remota del otro radio que tiene el nstreme-dual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set n-streme1 remote-mac=xx:xx:xx:xx:xx: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quality: 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quality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rate: 48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nected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221000"/>
            <a:ext cx="84358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?: Si no hay conexión verifique la calidad de la conexion ,seguramente es menos que –9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e seguro de que los valore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 un ruteador sean iguales que lo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l otro(s) radio, si no es así es probable la desalineacion de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me="wlan1" mtu=1500 mac-address=00:0B:6B:31:05:7C arp=enabled  disable-running-check=no interface-type=Atheros AR5212 radio-name="000B6B31057C" mode=station ssid="MikroTik" frequency=4920 band=5ghz scan-list=default-ism rate-set=default supported-rates-b=1Mbps,2Mbps,5.5Mbps,11Mbps supported-rates-a/g=6Mbps,9Mbps,12Mbps,18Mbps,24Mbps,36Mbps,48Mbps, 54Mbps basic-rates-b=1Mbps basic-rates-a/g=6Mbps max-station-count=2007 ack-timeout=dynamic tx-power=default noise-floor-threshold=default periodic-calibration=default burst-time=disabled fast-frames=no dfs-mode=none antenna-mode=ant-a wds-mode=disabled wds-default-bridge=none wds-ignore-ssid=no update-stats-interval=disabled default-authentication=yes default-forwarding=yes hide-ssid=no 802.1x-mod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e configuracion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trabaja como cliente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-wd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cliente que sera “bridgeado”*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p-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 con soporte de un client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lignment-onl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ara posicionar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streme-dual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usada para tipo nstreme en modo dual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ds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rrabaja Punto de acceso , pero se adapta a la frecuencia de su “par” de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* AP debe soportar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de  banda: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108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 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/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,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only-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g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108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frecuencia en la cual el punto de acceso trabaj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Nombre de la red inalámb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hide-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el AP no propagara el nombre de la red a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x-pow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otenci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en decibeles , la cual puede ser modific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locidad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upported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velocidades en las cuales la tarjeta inalámbrica puede trabajar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sic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todos los nodos de la red inalámbrica deben soportar est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te-set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default y velocidades básicas serán usadas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figu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usara velocidades soportadas y básicas que estén especificadas en la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forwardin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habilitar o deshabilitar la comunicación a nivel de red entre los clientes del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authentic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permitir la conexión solo a aquellos clientes que estén en las listas de acceso, este parámetro solo es aplicable al mod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can-li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liente busca por un AP solo en las frecuencias incluidas, el valor por default “defaulr-ism” incluy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4ghz – 2412, 2417, 2422, 2427, 2432, 2437, 2442, 2447, 2452, 2457, 2462, 2467, 24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 – 5180, 5200, 5220, 5240, 5260, 5280, 5300, 5320, 5745, 5765, 5785, 58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-turbo – 5210, 5250, 5290, 5760, 5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s adicionales pueden ser anadidas,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can-list=default-ism,5400-5500,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45:57Z</dcterms:created>
  <dc:creator> Uldis</dc:creator>
  <dc:description/>
  <dc:language>en-US</dc:language>
  <cp:lastModifiedBy>Alfonso Urbina Araux</cp:lastModifiedBy>
  <dcterms:modified xsi:type="dcterms:W3CDTF">2006-02-24T15:34:14Z</dcterms:modified>
  <cp:revision>82</cp:revision>
  <dc:subject/>
  <dc:title>RouterOS Wireless Interface</dc:title>
</cp:coreProperties>
</file>